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60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8.jpeg" ContentType="image/jpeg"/>
  <Override PartName="/ppt/media/image28.png" ContentType="image/png"/>
  <Override PartName="/ppt/media/image49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8D7-6228-4D39-A45B-63908EB6A0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E3B-61A5-4A60-8DF7-7E134D6A7A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EE7-8D4E-475D-8C15-2EC88163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877-C173-43C6-889B-1E82DD45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52B-70C5-49BC-95B3-C4BB404B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589-612F-4B25-A866-8D58C993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B95-6682-4E65-A685-9123756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D05-E463-4DCB-B203-5CEA7D3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853-6E83-44E7-8683-CDFFF5BF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213-AD02-4F2C-A766-D62B4B3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1BF-0A5A-461D-9B2B-B068F66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A57-5665-412D-935E-FD4302F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5C9-CE8A-4948-9C34-CF94409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6DA-569A-405A-8FC5-463EAB0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E69-666A-4DB3-B616-16BD7F5B5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image" Target="../media/image3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4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E3E2-4664-40DA-840A-77A569132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9" descr=""/>
          <p:cNvPicPr/>
          <p:nvPr/>
        </p:nvPicPr>
        <p:blipFill>
          <a:blip r:embed="rId3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0" descr=""/>
          <p:cNvPicPr/>
          <p:nvPr/>
        </p:nvPicPr>
        <p:blipFill>
          <a:blip r:embed="rId4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24"/>
          <p:cNvSpPr/>
          <p:nvPr/>
        </p:nvSpPr>
        <p:spPr>
          <a:xfrm>
            <a:off x="395280" y="333360"/>
            <a:ext cx="78487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aktyce zarządzania zasobami ludzkimi występują różne techniki rekrutacji kandydatów do pracy. Zalicza się do nich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prasie  (np. dzienniki, fachowe czasopism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radiu i telewiz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głoszenia pisemne wewnątrz firmy, zamieszczane np. na tablicach ogłosz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pośrednictwa urzędów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usług firm rekrutacyjnych/agencji doradztwa personal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Interne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raz wiele i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780000" y="400536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1656000" cy="21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1733760" cy="2943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38440" cy="286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95264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0"/>
          <p:cNvSpPr/>
          <p:nvPr/>
        </p:nvSpPr>
        <p:spPr>
          <a:xfrm>
            <a:off x="2484360" y="1916280"/>
            <a:ext cx="525636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 uzupełniony jest przez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lekcj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następuje po rekrutacji. Do metod selekcji zalicz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za dokument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wi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ty selek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trum oce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konwencjonalne metody selek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281240" cy="223848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ole tekstowe 19"/>
          <p:cNvSpPr/>
          <p:nvPr/>
        </p:nvSpPr>
        <p:spPr>
          <a:xfrm>
            <a:off x="539640" y="40464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lejnym elementem procesu rekrutacji jest proces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ap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cownika. Jest to proces, który polega na przystosowaniu pracownika do stanowiska i środowiska w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nowy pracownik zajmuje nowe dla siebie miejsce pracy, to potrzebuje on czasu na przystosowanie się do now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951280" cy="18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3059280" y="4653000"/>
            <a:ext cx="288108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8" descr="worke4.jpg"/>
          <p:cNvPicPr/>
          <p:nvPr/>
        </p:nvPicPr>
        <p:blipFill>
          <a:blip r:embed="rId1"/>
          <a:stretch/>
        </p:blipFill>
        <p:spPr>
          <a:xfrm>
            <a:off x="5897520" y="3860640"/>
            <a:ext cx="2344680" cy="27608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rostokąt 7"/>
          <p:cNvSpPr/>
          <p:nvPr/>
        </p:nvSpPr>
        <p:spPr>
          <a:xfrm>
            <a:off x="1979640" y="1628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, który rozpoczyna pracę, nawiązuje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sunek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zyli „zobowiązuje się do wykonywania pracy określonego rodzaju na rzecz pracodawcy i pod jego kierownictwem oraz w miej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czasie wyznaczonym przez pracodawcę, a pracodawca – do zatrudniania pracownika za wynagrodzenie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9" descr="4094410301_8785bcc1a2_m.jpg"/>
          <p:cNvPicPr/>
          <p:nvPr/>
        </p:nvPicPr>
        <p:blipFill>
          <a:blip r:embed="rId3"/>
          <a:srcRect l="0" t="3150" r="0" b="0"/>
          <a:stretch/>
        </p:blipFill>
        <p:spPr>
          <a:xfrm>
            <a:off x="42840" y="260280"/>
            <a:ext cx="196056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Obraz 12" descr="4189301060_b97514bca5_m.jpg"/>
          <p:cNvPicPr/>
          <p:nvPr/>
        </p:nvPicPr>
        <p:blipFill>
          <a:blip r:embed="rId1"/>
          <a:stretch/>
        </p:blipFill>
        <p:spPr>
          <a:xfrm>
            <a:off x="5302080" y="4869000"/>
            <a:ext cx="3002040" cy="1989000"/>
          </a:xfrm>
          <a:prstGeom prst="rect">
            <a:avLst/>
          </a:prstGeom>
          <a:ln w="0">
            <a:noFill/>
          </a:ln>
        </p:spPr>
      </p:pic>
      <p:pic>
        <p:nvPicPr>
          <p:cNvPr id="175" name="Obraz 11" descr="4431759542_a81fef43e0_m.jpg"/>
          <p:cNvPicPr/>
          <p:nvPr/>
        </p:nvPicPr>
        <p:blipFill>
          <a:blip r:embed="rId2"/>
          <a:stretch/>
        </p:blipFill>
        <p:spPr>
          <a:xfrm>
            <a:off x="0" y="126828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"/>
          <p:cNvSpPr/>
          <p:nvPr/>
        </p:nvSpPr>
        <p:spPr>
          <a:xfrm>
            <a:off x="0" y="621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konywanie pracy ma kilka ważnych cech. Należą do 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rostokąt 8"/>
          <p:cNvSpPr/>
          <p:nvPr/>
        </p:nvSpPr>
        <p:spPr>
          <a:xfrm>
            <a:off x="3059280" y="1484280"/>
            <a:ext cx="5184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anie pracownika kierownictwu pracodaw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osobiście przez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powtarzana w codziennych lub dłuższych odstępach czas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w miejscu i czasie, które są wyznaczone przez pracodawc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ę wykonuje się na ryzyko pracodaw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rostokąt 10"/>
          <p:cNvSpPr/>
          <p:nvPr/>
        </p:nvSpPr>
        <p:spPr>
          <a:xfrm>
            <a:off x="684360" y="515772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praca jest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odpłatn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oznacza, że pracownik za swoją pracę otrzyma wynagrodze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raz 25" descr="6516496691_3386a72618_m.jpg"/>
          <p:cNvPicPr/>
          <p:nvPr/>
        </p:nvPicPr>
        <p:blipFill>
          <a:blip r:embed="rId1"/>
          <a:stretch/>
        </p:blipFill>
        <p:spPr>
          <a:xfrm>
            <a:off x="2340000" y="4073400"/>
            <a:ext cx="4176720" cy="27846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rostokąt 10"/>
          <p:cNvSpPr/>
          <p:nvPr/>
        </p:nvSpPr>
        <p:spPr>
          <a:xfrm>
            <a:off x="2268360" y="549360"/>
            <a:ext cx="55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deks pracy (art. 25) definiuje następujące rodzaje umów o prac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11" descr="6543358253_2578ae2928_m.jpg"/>
          <p:cNvPicPr/>
          <p:nvPr/>
        </p:nvPicPr>
        <p:blipFill>
          <a:blip r:embed="rId3"/>
          <a:stretch/>
        </p:blipFill>
        <p:spPr>
          <a:xfrm>
            <a:off x="0" y="0"/>
            <a:ext cx="1944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2"/>
          <p:cNvGrpSpPr/>
          <p:nvPr/>
        </p:nvGrpSpPr>
        <p:grpSpPr>
          <a:xfrm>
            <a:off x="2484360" y="1628640"/>
            <a:ext cx="4714920" cy="505080"/>
            <a:chOff x="2484360" y="1628640"/>
            <a:chExt cx="4714920" cy="505080"/>
          </a:xfrm>
        </p:grpSpPr>
        <p:sp>
          <p:nvSpPr>
            <p:cNvPr id="191" name="Prostokąt zaokrąglony 13"/>
            <p:cNvSpPr/>
            <p:nvPr/>
          </p:nvSpPr>
          <p:spPr>
            <a:xfrm>
              <a:off x="2484360" y="1628640"/>
              <a:ext cx="47149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ole tekstowe 14"/>
            <p:cNvSpPr/>
            <p:nvPr/>
          </p:nvSpPr>
          <p:spPr>
            <a:xfrm>
              <a:off x="2484360" y="1628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okres prób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6"/>
          <p:cNvGrpSpPr/>
          <p:nvPr/>
        </p:nvGrpSpPr>
        <p:grpSpPr>
          <a:xfrm>
            <a:off x="2484360" y="2276640"/>
            <a:ext cx="4714920" cy="504720"/>
            <a:chOff x="2484360" y="2276640"/>
            <a:chExt cx="4714920" cy="504720"/>
          </a:xfrm>
        </p:grpSpPr>
        <p:sp>
          <p:nvSpPr>
            <p:cNvPr id="194" name="Prostokąt zaokrąglony 17"/>
            <p:cNvSpPr/>
            <p:nvPr/>
          </p:nvSpPr>
          <p:spPr>
            <a:xfrm>
              <a:off x="2484360" y="227664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ole tekstowe 18"/>
            <p:cNvSpPr/>
            <p:nvPr/>
          </p:nvSpPr>
          <p:spPr>
            <a:xfrm>
              <a:off x="2484360" y="2276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19"/>
          <p:cNvGrpSpPr/>
          <p:nvPr/>
        </p:nvGrpSpPr>
        <p:grpSpPr>
          <a:xfrm>
            <a:off x="2484360" y="2924280"/>
            <a:ext cx="4714920" cy="504720"/>
            <a:chOff x="2484360" y="2924280"/>
            <a:chExt cx="4714920" cy="504720"/>
          </a:xfrm>
        </p:grpSpPr>
        <p:sp>
          <p:nvSpPr>
            <p:cNvPr id="197" name="Prostokąt zaokrąglony 20"/>
            <p:cNvSpPr/>
            <p:nvPr/>
          </p:nvSpPr>
          <p:spPr>
            <a:xfrm>
              <a:off x="2484360" y="292428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ole tekstowe 21"/>
            <p:cNvSpPr/>
            <p:nvPr/>
          </p:nvSpPr>
          <p:spPr>
            <a:xfrm>
              <a:off x="2484360" y="292428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wykonania określonej p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2"/>
          <p:cNvGrpSpPr/>
          <p:nvPr/>
        </p:nvGrpSpPr>
        <p:grpSpPr>
          <a:xfrm>
            <a:off x="2484360" y="3573360"/>
            <a:ext cx="4714920" cy="503280"/>
            <a:chOff x="2484360" y="3573360"/>
            <a:chExt cx="4714920" cy="503280"/>
          </a:xfrm>
        </p:grpSpPr>
        <p:sp>
          <p:nvSpPr>
            <p:cNvPr id="200" name="Prostokąt zaokrąglony 23"/>
            <p:cNvSpPr/>
            <p:nvPr/>
          </p:nvSpPr>
          <p:spPr>
            <a:xfrm>
              <a:off x="2484360" y="3573360"/>
              <a:ext cx="471492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ole tekstowe 24"/>
            <p:cNvSpPr/>
            <p:nvPr/>
          </p:nvSpPr>
          <p:spPr>
            <a:xfrm>
              <a:off x="2484360" y="357336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nie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ole tekstowe 2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32720" y="3884760"/>
            <a:ext cx="1631880" cy="2973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rostokąt 8"/>
          <p:cNvSpPr/>
          <p:nvPr/>
        </p:nvSpPr>
        <p:spPr>
          <a:xfrm>
            <a:off x="2411280" y="1916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, której przedmiotem jest wykonywanie pewnej pracy, nie zawsze jednak musi mieć charakter umowy o pracę. Strony umowy decydują, jaki charakter prawny będzie mieć zatrudnienie. Do najważniejszych umów cywilnoprawnych, które dotyczą zatrudnienia, należ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 o dzie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-zlece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9760" cy="2376360"/>
          </a:xfrm>
          <a:prstGeom prst="rect">
            <a:avLst/>
          </a:prstGeom>
          <a:ln w="0">
            <a:noFill/>
          </a:ln>
        </p:spPr>
      </p:pic>
      <p:sp>
        <p:nvSpPr>
          <p:cNvPr id="210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57400" cy="2997000"/>
          </a:xfrm>
          <a:prstGeom prst="rect">
            <a:avLst/>
          </a:prstGeom>
          <a:ln w="0">
            <a:noFill/>
          </a:ln>
        </p:spPr>
      </p:pic>
      <p:sp>
        <p:nvSpPr>
          <p:cNvPr id="216" name="Prostokąt 7"/>
          <p:cNvSpPr/>
          <p:nvPr/>
        </p:nvSpPr>
        <p:spPr>
          <a:xfrm>
            <a:off x="755640" y="907920"/>
            <a:ext cx="70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każdą formą wykonywania pracy związane jest wynagrodzenie pracownika. Pojęcie wynagrodzenia „obejmuje ogół wydatków pieniężnych oraz innych świadczeń wypłacanych pracowniko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tytułu zatrudnienia w podmiocie gospodarczym, obliczanych według zasad statystyki zatrudnienia i wynagrodzeń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943280" cy="36720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7"/>
          <p:cNvSpPr/>
          <p:nvPr/>
        </p:nvSpPr>
        <p:spPr>
          <a:xfrm>
            <a:off x="755640" y="119700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łaca zasadn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em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niki gwarantowane kodeksem pracy (m. in. warunki szkodliwe lub godziny nadliczbow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składniki (np. nagrody z zysku, okolicznościowe, dodatki stażowe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odroczo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udziały w zysku lub np. akcje (dotyczy to głównie stanowisk kierowniczych, lecz nie zawsz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dodatkowe (samochód, telefon, ubezpieczenia itd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feterie – swobodny wybór możliwych odmian wynagrodzenia pozapłacow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socj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rostokąt 9"/>
          <p:cNvSpPr/>
          <p:nvPr/>
        </p:nvSpPr>
        <p:spPr>
          <a:xfrm>
            <a:off x="250920" y="4762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agrodzenie za pracę może zawierać następujące ele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629080" cy="277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3071880"/>
          </a:xfrm>
          <a:prstGeom prst="rect">
            <a:avLst/>
          </a:prstGeom>
          <a:ln w="0">
            <a:noFill/>
          </a:ln>
        </p:spPr>
      </p:pic>
      <p:sp>
        <p:nvSpPr>
          <p:cNvPr id="232" name="Prostokąt 7"/>
          <p:cNvSpPr/>
          <p:nvPr/>
        </p:nvSpPr>
        <p:spPr>
          <a:xfrm>
            <a:off x="2340000" y="170028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 wynagrodzenia każdy musi odprowadzać podatki oraz odpowiednie składki na ubezpieczenia społeczne i zdrowotne. Pierwszym krokiem, który należy wykon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elu obliczenia wynagrodzenia brutto, jest odliczenie składek na ubezpieczenia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2893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upa 17"/>
          <p:cNvGrpSpPr/>
          <p:nvPr/>
        </p:nvGrpSpPr>
        <p:grpSpPr>
          <a:xfrm>
            <a:off x="611280" y="907920"/>
            <a:ext cx="7345440" cy="2376720"/>
            <a:chOff x="611280" y="907920"/>
            <a:chExt cx="7345440" cy="2376720"/>
          </a:xfrm>
        </p:grpSpPr>
        <p:sp>
          <p:nvSpPr>
            <p:cNvPr id="59" name="Prostokąt zaokrąglony 12"/>
            <p:cNvSpPr/>
            <p:nvPr/>
          </p:nvSpPr>
          <p:spPr>
            <a:xfrm>
              <a:off x="611280" y="907920"/>
              <a:ext cx="7345440" cy="237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ole tekstowe 11"/>
            <p:cNvSpPr/>
            <p:nvPr/>
          </p:nvSpPr>
          <p:spPr>
            <a:xfrm>
              <a:off x="611280" y="1411920"/>
              <a:ext cx="734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ka personalna to pewien zespół celów, zasad i środków wynikających ze strategii personalnej i mających służyć do jej realizacji, zmierzających do optymalnego gospodarowania zasobami ludzkim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10" descr="5757389658_4b713b1510_m.jpg"/>
          <p:cNvPicPr/>
          <p:nvPr/>
        </p:nvPicPr>
        <p:blipFill>
          <a:blip r:embed="rId1"/>
          <a:stretch/>
        </p:blipFill>
        <p:spPr>
          <a:xfrm>
            <a:off x="5076720" y="4476600"/>
            <a:ext cx="3191040" cy="23814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913040" cy="1727280"/>
          </a:xfrm>
          <a:prstGeom prst="rect">
            <a:avLst/>
          </a:prstGeom>
          <a:ln w="0">
            <a:noFill/>
          </a:ln>
        </p:spPr>
      </p:pic>
      <p:sp>
        <p:nvSpPr>
          <p:cNvPr id="240" name="Prostokąt 7"/>
          <p:cNvSpPr/>
          <p:nvPr/>
        </p:nvSpPr>
        <p:spPr>
          <a:xfrm>
            <a:off x="1908000" y="141300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tępnie należy obliczyć składkę na ubezpieczenie zdrowotne, której podstawa wymiaru to wynagrodzenie pomniejszone o składki na ubezpieczenia społeczne finansowane ze środków pracow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składka na ubezpieczenie zdrowotne okaże się wyższa od zaliczki na podatek dochodowy (ustalonej z uwzględnieniem przysługujących kosztów uzyskania przychodów i kwoty zmniejszającej podatek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ę należy obniżyć do wysokości zalicz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upa 13"/>
          <p:cNvGrpSpPr/>
          <p:nvPr/>
        </p:nvGrpSpPr>
        <p:grpSpPr>
          <a:xfrm>
            <a:off x="2124000" y="3933720"/>
            <a:ext cx="4751640" cy="2924280"/>
            <a:chOff x="2124000" y="3933720"/>
            <a:chExt cx="4751640" cy="2924280"/>
          </a:xfrm>
        </p:grpSpPr>
        <p:pic>
          <p:nvPicPr>
            <p:cNvPr id="244" name="Obraz 11" descr="3000043467_c78979545e_m.jpg"/>
            <p:cNvPicPr/>
            <p:nvPr/>
          </p:nvPicPr>
          <p:blipFill>
            <a:blip r:embed="rId1"/>
            <a:stretch/>
          </p:blipFill>
          <p:spPr>
            <a:xfrm>
              <a:off x="2124000" y="3933720"/>
              <a:ext cx="475164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12"/>
            <p:cNvSpPr/>
            <p:nvPr/>
          </p:nvSpPr>
          <p:spPr>
            <a:xfrm>
              <a:off x="5758200" y="6567480"/>
              <a:ext cx="1023840" cy="8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Obraz 9" descr="5187314534_09d29656e8_m.jpg"/>
          <p:cNvPicPr/>
          <p:nvPr/>
        </p:nvPicPr>
        <p:blipFill>
          <a:blip r:embed="rId3"/>
          <a:srcRect l="10618" t="0" r="0" b="0"/>
          <a:stretch/>
        </p:blipFill>
        <p:spPr>
          <a:xfrm>
            <a:off x="0" y="260280"/>
            <a:ext cx="2724120" cy="3048120"/>
          </a:xfrm>
          <a:prstGeom prst="rect">
            <a:avLst/>
          </a:prstGeom>
          <a:ln w="0">
            <a:noFill/>
          </a:ln>
        </p:spPr>
      </p:pic>
      <p:sp>
        <p:nvSpPr>
          <p:cNvPr id="250" name="Prostokąt 7"/>
          <p:cNvSpPr/>
          <p:nvPr/>
        </p:nvSpPr>
        <p:spPr>
          <a:xfrm>
            <a:off x="2411280" y="1125360"/>
            <a:ext cx="51134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 obliczenia wynagrodzenia n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zakłada się, ż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 korzysta z podstawowych kosztów uzyskania przych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upoważniony jest do odprowadzania zaliczki na podatek dochodowy o 1/12 kwoty zmniejszającej podatek – 46,63 zł, wynagrodzenie brutto jest równe 2000 z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a 1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4" name="Tabela 1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8072640" cy="439560"/>
          </a:xfrm>
          <a:prstGeom prst="rect">
            <a:avLst/>
          </a:prstGeom>
          <a:ln w="0">
            <a:noFill/>
          </a:ln>
        </p:spPr>
      </p:pic>
      <p:pic>
        <p:nvPicPr>
          <p:cNvPr id="255" name="Tabela 14" descr=""/>
          <p:cNvPicPr/>
          <p:nvPr/>
        </p:nvPicPr>
        <p:blipFill>
          <a:blip r:embed="rId3"/>
          <a:stretch/>
        </p:blipFill>
        <p:spPr>
          <a:xfrm>
            <a:off x="176040" y="689040"/>
            <a:ext cx="807264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Tabela 16" descr=""/>
          <p:cNvPicPr/>
          <p:nvPr/>
        </p:nvPicPr>
        <p:blipFill>
          <a:blip r:embed="rId4"/>
          <a:stretch/>
        </p:blipFill>
        <p:spPr>
          <a:xfrm>
            <a:off x="176040" y="206064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7" name="Tabela 17" descr=""/>
          <p:cNvPicPr/>
          <p:nvPr/>
        </p:nvPicPr>
        <p:blipFill>
          <a:blip r:embed="rId5"/>
          <a:stretch/>
        </p:blipFill>
        <p:spPr>
          <a:xfrm>
            <a:off x="176040" y="234648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Tabela 18" descr=""/>
          <p:cNvPicPr/>
          <p:nvPr/>
        </p:nvPicPr>
        <p:blipFill>
          <a:blip r:embed="rId6"/>
          <a:stretch/>
        </p:blipFill>
        <p:spPr>
          <a:xfrm>
            <a:off x="176040" y="2925720"/>
            <a:ext cx="8072640" cy="712800"/>
          </a:xfrm>
          <a:prstGeom prst="rect">
            <a:avLst/>
          </a:prstGeom>
          <a:ln w="0">
            <a:noFill/>
          </a:ln>
        </p:spPr>
      </p:pic>
      <p:pic>
        <p:nvPicPr>
          <p:cNvPr id="259" name="Tabela 19" descr=""/>
          <p:cNvPicPr/>
          <p:nvPr/>
        </p:nvPicPr>
        <p:blipFill>
          <a:blip r:embed="rId7"/>
          <a:stretch/>
        </p:blipFill>
        <p:spPr>
          <a:xfrm>
            <a:off x="176040" y="3498840"/>
            <a:ext cx="8072640" cy="439920"/>
          </a:xfrm>
          <a:prstGeom prst="rect">
            <a:avLst/>
          </a:prstGeom>
          <a:ln w="0">
            <a:noFill/>
          </a:ln>
        </p:spPr>
      </p:pic>
      <p:pic>
        <p:nvPicPr>
          <p:cNvPr id="260" name="Tabela 20" descr=""/>
          <p:cNvPicPr/>
          <p:nvPr/>
        </p:nvPicPr>
        <p:blipFill>
          <a:blip r:embed="rId8"/>
          <a:stretch/>
        </p:blipFill>
        <p:spPr>
          <a:xfrm>
            <a:off x="176040" y="3786120"/>
            <a:ext cx="8072640" cy="719280"/>
          </a:xfrm>
          <a:prstGeom prst="rect">
            <a:avLst/>
          </a:prstGeom>
          <a:ln w="0">
            <a:noFill/>
          </a:ln>
        </p:spPr>
      </p:pic>
      <p:pic>
        <p:nvPicPr>
          <p:cNvPr id="261" name="Tabela 21" descr=""/>
          <p:cNvPicPr/>
          <p:nvPr/>
        </p:nvPicPr>
        <p:blipFill>
          <a:blip r:embed="rId9"/>
          <a:stretch/>
        </p:blipFill>
        <p:spPr>
          <a:xfrm>
            <a:off x="176040" y="4363920"/>
            <a:ext cx="807264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Tabela 22" descr=""/>
          <p:cNvPicPr/>
          <p:nvPr/>
        </p:nvPicPr>
        <p:blipFill>
          <a:blip r:embed="rId10"/>
          <a:stretch/>
        </p:blipFill>
        <p:spPr>
          <a:xfrm>
            <a:off x="176040" y="493704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Tabela 23" descr=""/>
          <p:cNvPicPr/>
          <p:nvPr/>
        </p:nvPicPr>
        <p:blipFill>
          <a:blip r:embed="rId11"/>
          <a:stretch/>
        </p:blipFill>
        <p:spPr>
          <a:xfrm>
            <a:off x="176040" y="5516640"/>
            <a:ext cx="80726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5" name="Picture 8" descr=""/>
            <p:cNvPicPr/>
            <p:nvPr/>
          </p:nvPicPr>
          <p:blipFill>
            <a:blip r:embed="rId1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ole tekstowe 2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1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32"/>
          <p:cNvGrpSpPr/>
          <p:nvPr/>
        </p:nvGrpSpPr>
        <p:grpSpPr>
          <a:xfrm>
            <a:off x="4427640" y="2133360"/>
            <a:ext cx="1873080" cy="4003920"/>
            <a:chOff x="4427640" y="2133360"/>
            <a:chExt cx="1873080" cy="4003920"/>
          </a:xfrm>
        </p:grpSpPr>
        <p:sp>
          <p:nvSpPr>
            <p:cNvPr id="64" name="Dowolny kształt 24"/>
            <p:cNvSpPr/>
            <p:nvPr/>
          </p:nvSpPr>
          <p:spPr>
            <a:xfrm rot="16200000">
              <a:off x="3766320" y="2801880"/>
              <a:ext cx="3192840" cy="18554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Dowolny kształt 26" descr=""/>
            <p:cNvPicPr/>
            <p:nvPr/>
          </p:nvPicPr>
          <p:blipFill>
            <a:blip r:embed="rId1"/>
            <a:stretch/>
          </p:blipFill>
          <p:spPr>
            <a:xfrm>
              <a:off x="4427640" y="2930760"/>
              <a:ext cx="187308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4533840" y="2205360"/>
              <a:ext cx="174924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upa 31"/>
          <p:cNvGrpSpPr/>
          <p:nvPr/>
        </p:nvGrpSpPr>
        <p:grpSpPr>
          <a:xfrm>
            <a:off x="2484360" y="2133360"/>
            <a:ext cx="1871640" cy="4003920"/>
            <a:chOff x="2484360" y="2133360"/>
            <a:chExt cx="1871640" cy="4003920"/>
          </a:xfrm>
        </p:grpSpPr>
        <p:sp>
          <p:nvSpPr>
            <p:cNvPr id="68" name="Dowolny kształt 21"/>
            <p:cNvSpPr/>
            <p:nvPr/>
          </p:nvSpPr>
          <p:spPr>
            <a:xfrm rot="16200000">
              <a:off x="1802520" y="2818080"/>
              <a:ext cx="3192840" cy="18230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Dowolny kształt 23" descr=""/>
            <p:cNvPicPr/>
            <p:nvPr/>
          </p:nvPicPr>
          <p:blipFill>
            <a:blip r:embed="rId3"/>
            <a:stretch/>
          </p:blipFill>
          <p:spPr>
            <a:xfrm>
              <a:off x="248436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upa 33"/>
          <p:cNvGrpSpPr/>
          <p:nvPr/>
        </p:nvGrpSpPr>
        <p:grpSpPr>
          <a:xfrm>
            <a:off x="539640" y="2133360"/>
            <a:ext cx="1871640" cy="4003920"/>
            <a:chOff x="539640" y="2133360"/>
            <a:chExt cx="1871640" cy="4003920"/>
          </a:xfrm>
        </p:grpSpPr>
        <p:sp>
          <p:nvSpPr>
            <p:cNvPr id="71" name="Dowolny kształt 19"/>
            <p:cNvSpPr/>
            <p:nvPr/>
          </p:nvSpPr>
          <p:spPr>
            <a:xfrm rot="16200000">
              <a:off x="-120960" y="2843640"/>
              <a:ext cx="3192840" cy="177228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Dowolny kształt 20" descr=""/>
            <p:cNvPicPr/>
            <p:nvPr/>
          </p:nvPicPr>
          <p:blipFill>
            <a:blip r:embed="rId4"/>
            <a:stretch/>
          </p:blipFill>
          <p:spPr>
            <a:xfrm>
              <a:off x="53964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" descr=""/>
            <p:cNvPicPr/>
            <p:nvPr/>
          </p:nvPicPr>
          <p:blipFill>
            <a:blip r:embed="rId5"/>
            <a:stretch/>
          </p:blipFill>
          <p:spPr>
            <a:xfrm>
              <a:off x="687600" y="2205360"/>
              <a:ext cx="160668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ole tekstowe 28"/>
          <p:cNvSpPr/>
          <p:nvPr/>
        </p:nvSpPr>
        <p:spPr>
          <a:xfrm>
            <a:off x="468360" y="4762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dostarcza wielu wskazówek menedżerom i określa reguły traktowania pracowników w sposób sprawiedliwy i właściwy. Jest to powód, dla którego polityka personalna powinna uwzględnić następujące wart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upa 36"/>
          <p:cNvGrpSpPr/>
          <p:nvPr/>
        </p:nvGrpSpPr>
        <p:grpSpPr>
          <a:xfrm>
            <a:off x="6372360" y="2133360"/>
            <a:ext cx="1871640" cy="4003920"/>
            <a:chOff x="6372360" y="2133360"/>
            <a:chExt cx="1871640" cy="4003920"/>
          </a:xfrm>
        </p:grpSpPr>
        <p:grpSp>
          <p:nvGrpSpPr>
            <p:cNvPr id="79" name="Grupa 29"/>
            <p:cNvGrpSpPr/>
            <p:nvPr/>
          </p:nvGrpSpPr>
          <p:grpSpPr>
            <a:xfrm>
              <a:off x="6372360" y="2133360"/>
              <a:ext cx="1871640" cy="4003920"/>
              <a:chOff x="6372360" y="2133360"/>
              <a:chExt cx="1871640" cy="4003920"/>
            </a:xfrm>
          </p:grpSpPr>
          <p:sp>
            <p:nvSpPr>
              <p:cNvPr id="80" name="Dowolny kształt 30"/>
              <p:cNvSpPr/>
              <p:nvPr/>
            </p:nvSpPr>
            <p:spPr>
              <a:xfrm rot="16200000">
                <a:off x="5712840" y="2818080"/>
                <a:ext cx="3192840" cy="1823040"/>
              </a:xfrm>
              <a:custGeom>
                <a:avLst/>
                <a:gdLst/>
                <a:ahLst/>
                <a:rect l="l" t="t" r="r" b="b"/>
                <a:pathLst>
                  <a:path w="1985367" h="3199903">
                    <a:moveTo>
                      <a:pt x="1923776" y="2"/>
                    </a:moveTo>
                    <a:cubicBezTo>
                      <a:pt x="1940111" y="2"/>
                      <a:pt x="1955777" y="16859"/>
                      <a:pt x="1967327" y="46863"/>
                    </a:cubicBezTo>
                    <a:cubicBezTo>
                      <a:pt x="1978877" y="76867"/>
                      <a:pt x="1985367" y="117564"/>
                      <a:pt x="1985367" y="159996"/>
                    </a:cubicBezTo>
                    <a:lnTo>
                      <a:pt x="1985367" y="3039907"/>
                    </a:lnTo>
                    <a:cubicBezTo>
                      <a:pt x="1985367" y="3082341"/>
                      <a:pt x="1978877" y="3123036"/>
                      <a:pt x="1967327" y="3153040"/>
                    </a:cubicBezTo>
                    <a:cubicBezTo>
                      <a:pt x="1955777" y="3183044"/>
                      <a:pt x="1940111" y="3199901"/>
                      <a:pt x="1923776" y="3199901"/>
                    </a:cubicBezTo>
                    <a:lnTo>
                      <a:pt x="61591" y="3199901"/>
                    </a:lnTo>
                    <a:cubicBezTo>
                      <a:pt x="45256" y="3199901"/>
                      <a:pt x="29590" y="3183044"/>
                      <a:pt x="18040" y="3153040"/>
                    </a:cubicBezTo>
                    <a:cubicBezTo>
                      <a:pt x="6490" y="3123036"/>
                      <a:pt x="0" y="3082339"/>
                      <a:pt x="0" y="3039907"/>
                    </a:cubicBezTo>
                    <a:lnTo>
                      <a:pt x="0" y="159996"/>
                    </a:lnTo>
                    <a:cubicBezTo>
                      <a:pt x="0" y="117562"/>
                      <a:pt x="6490" y="76867"/>
                      <a:pt x="18040" y="46863"/>
                    </a:cubicBezTo>
                    <a:cubicBezTo>
                      <a:pt x="29590" y="16859"/>
                      <a:pt x="45256" y="2"/>
                      <a:pt x="61591" y="2"/>
                    </a:cubicBezTo>
                    <a:lnTo>
                      <a:pt x="1923776" y="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5640" rIns="97560" tIns="75240" bIns="1587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Dowolny kształ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372360" y="2930760"/>
                <a:ext cx="1871640" cy="32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99440" y="2205360"/>
                <a:ext cx="1652760" cy="1436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" name="Picture 2" descr=""/>
            <p:cNvPicPr/>
            <p:nvPr/>
          </p:nvPicPr>
          <p:blipFill>
            <a:blip r:embed="rId9"/>
            <a:stretch/>
          </p:blipFill>
          <p:spPr>
            <a:xfrm>
              <a:off x="6444000" y="2205360"/>
              <a:ext cx="17276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5" descr=""/>
          <p:cNvPicPr/>
          <p:nvPr/>
        </p:nvPicPr>
        <p:blipFill>
          <a:blip r:embed="rId10"/>
          <a:stretch/>
        </p:blipFill>
        <p:spPr>
          <a:xfrm>
            <a:off x="2556000" y="220500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2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11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38764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Grupa 12"/>
          <p:cNvGrpSpPr/>
          <p:nvPr/>
        </p:nvGrpSpPr>
        <p:grpSpPr>
          <a:xfrm>
            <a:off x="611280" y="765000"/>
            <a:ext cx="7129440" cy="2951280"/>
            <a:chOff x="611280" y="765000"/>
            <a:chExt cx="7129440" cy="2951280"/>
          </a:xfrm>
        </p:grpSpPr>
        <p:sp>
          <p:nvSpPr>
            <p:cNvPr id="92" name="Prostokąt zaokrąglony 11"/>
            <p:cNvSpPr/>
            <p:nvPr/>
          </p:nvSpPr>
          <p:spPr>
            <a:xfrm>
              <a:off x="611280" y="765000"/>
              <a:ext cx="7129440" cy="29512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ole tekstowe 10"/>
            <p:cNvSpPr/>
            <p:nvPr/>
          </p:nvSpPr>
          <p:spPr>
            <a:xfrm>
              <a:off x="755280" y="1124640"/>
              <a:ext cx="684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rządzanie zasobami ludzki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- proces składający się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logicznie ze sobą powiązanych czynności, ukierunkowanych na zapewnienie organizacji w określonym czasie i miejscu wymaganej liczby pracowników o odpowiednich kwalifikacjach, oraz tworzenie warunków stymulujących efektywne zachowania zatrudnionego personelu zgodnie z nadrzędnym celem organiz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ole tekstowe 22"/>
          <p:cNvSpPr/>
          <p:nvPr/>
        </p:nvSpPr>
        <p:spPr>
          <a:xfrm>
            <a:off x="4067280" y="836640"/>
            <a:ext cx="4176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jest wielowymiarowa.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ędzy innymi dotyc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anowania personel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potrzebowania na perso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onywania oceny pracy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noszenia kwalifikacji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tywowania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nawet redukcji zatrudn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8"/>
          <a:stretch/>
        </p:blipFill>
        <p:spPr>
          <a:xfrm>
            <a:off x="4859280" y="5157720"/>
            <a:ext cx="2214720" cy="14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50920" y="692280"/>
            <a:ext cx="340344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0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ole tekstowe 22"/>
          <p:cNvSpPr/>
          <p:nvPr/>
        </p:nvSpPr>
        <p:spPr>
          <a:xfrm>
            <a:off x="684360" y="306864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istnieje wiele aktów prawnych, które są bardzo istotne dla polityki personalnej. Niektóre zagadnienia dotyczące pracy występują już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stytucji Rzeczypospolitej Polskie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Jednak najbardziej istotnym aktem prawnym, który określa prawa i obowiązki pracownika i pracodawcy,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eks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Inn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enia regulują m.in. funkcjonowanie konkretnych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562560" cy="225756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12"/>
          <p:cNvSpPr/>
          <p:nvPr/>
        </p:nvSpPr>
        <p:spPr>
          <a:xfrm>
            <a:off x="489240" y="47628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różnia się dwa modele polityki perso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27"/>
          <p:cNvGrpSpPr/>
          <p:nvPr/>
        </p:nvGrpSpPr>
        <p:grpSpPr>
          <a:xfrm>
            <a:off x="4500720" y="3389400"/>
            <a:ext cx="3322440" cy="2265120"/>
            <a:chOff x="4500720" y="3389400"/>
            <a:chExt cx="3322440" cy="2265120"/>
          </a:xfrm>
        </p:grpSpPr>
        <p:sp>
          <p:nvSpPr>
            <p:cNvPr id="116" name="Dowolny kształt 20"/>
            <p:cNvSpPr/>
            <p:nvPr/>
          </p:nvSpPr>
          <p:spPr>
            <a:xfrm>
              <a:off x="4500720" y="3389400"/>
              <a:ext cx="3322440" cy="2265120"/>
            </a:xfrm>
            <a:custGeom>
              <a:avLst/>
              <a:gdLst/>
              <a:ahLst/>
              <a:rect l="l" t="t" r="r" b="b"/>
              <a:pathLst>
                <a:path w="3323071" h="2264730">
                  <a:moveTo>
                    <a:pt x="0" y="0"/>
                  </a:moveTo>
                  <a:lnTo>
                    <a:pt x="3323071" y="0"/>
                  </a:lnTo>
                  <a:lnTo>
                    <a:pt x="3323071" y="2264730"/>
                  </a:lnTo>
                  <a:lnTo>
                    <a:pt x="0" y="22647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22"/>
            <p:cNvSpPr/>
            <p:nvPr/>
          </p:nvSpPr>
          <p:spPr>
            <a:xfrm>
              <a:off x="4500720" y="3645000"/>
              <a:ext cx="331200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kapitału ludzkiego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1900"/>
              </a:b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model oparty jest na założeniu, że człowiek zmienia i uczy się przez całe swoje życie, także inwestycje w jego rozwój są wskaza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1305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26"/>
          <p:cNvGrpSpPr/>
          <p:nvPr/>
        </p:nvGrpSpPr>
        <p:grpSpPr>
          <a:xfrm>
            <a:off x="611280" y="3386160"/>
            <a:ext cx="3325680" cy="2268360"/>
            <a:chOff x="611280" y="3386160"/>
            <a:chExt cx="3325680" cy="2268360"/>
          </a:xfrm>
        </p:grpSpPr>
        <p:sp>
          <p:nvSpPr>
            <p:cNvPr id="120" name="Dowolny kształt 17"/>
            <p:cNvSpPr/>
            <p:nvPr/>
          </p:nvSpPr>
          <p:spPr>
            <a:xfrm>
              <a:off x="614160" y="3386160"/>
              <a:ext cx="3322800" cy="2268360"/>
            </a:xfrm>
            <a:custGeom>
              <a:avLst/>
              <a:gdLst/>
              <a:ahLst/>
              <a:rect l="l" t="t" r="r" b="b"/>
              <a:pathLst>
                <a:path w="3323071" h="2267941">
                  <a:moveTo>
                    <a:pt x="0" y="0"/>
                  </a:moveTo>
                  <a:lnTo>
                    <a:pt x="3323071" y="0"/>
                  </a:lnTo>
                  <a:lnTo>
                    <a:pt x="3323071" y="2267941"/>
                  </a:lnTo>
                  <a:lnTo>
                    <a:pt x="0" y="2267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ole tekstowe 24"/>
            <p:cNvSpPr/>
            <p:nvPr/>
          </p:nvSpPr>
          <p:spPr>
            <a:xfrm>
              <a:off x="611280" y="4004280"/>
              <a:ext cx="3312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sita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model oparty na konkurencji oraz rywalizacji między pracownika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ole tekstowe 10"/>
          <p:cNvSpPr/>
          <p:nvPr/>
        </p:nvSpPr>
        <p:spPr>
          <a:xfrm>
            <a:off x="611280" y="3213000"/>
            <a:ext cx="75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ostki gospodarcze realizują politykę personalną, powołując odpowiednie komórki, które są do tego celu przeznaczone. Nazywa się je częst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mi personalnymi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Te jednostki koncentrują swoje działania na tworzeniu kadr oraz ich doskonalen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250020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237636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ole tekstowe 14"/>
          <p:cNvSpPr/>
          <p:nvPr/>
        </p:nvSpPr>
        <p:spPr>
          <a:xfrm>
            <a:off x="539640" y="112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zespół skoordynowanych oraz celowych działań, które są związane z obsadzaniem stanowisk organizacyjnych, przez osoby mające odpowiednie i pożądane cechy psychologicz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kwalifikacje zawodowe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pierwszy etap pozyskiwania pracowników, który poprzedzony jest planowaniem zasobów ludzk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3:10Z</dcterms:created>
  <dc:creator>x</dc:creator>
  <dc:description/>
  <dc:language>en-US</dc:language>
  <cp:lastModifiedBy>Gosia</cp:lastModifiedBy>
  <dcterms:modified xsi:type="dcterms:W3CDTF">2013-01-31T16:58:03Z</dcterms:modified>
  <cp:revision>107</cp:revision>
  <dc:subject/>
  <dc:title>Slajd 1</dc:title>
</cp:coreProperties>
</file>